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150F5-2FF0-4EE9-925A-4AF61BD25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05D93-2A70-437B-B44F-1840541B1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5C317-18A3-4743-9C68-A933E331F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9FF09-9696-4499-A65B-72123DEB7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04870F-3BA3-40D3-BED7-77F83079B4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7B9AD-AD48-40E5-855B-FEA7D3CD9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A7B15-BDA5-4EEF-B594-946D4552A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0F13E-0F13-4B31-8AEF-583CBA8DB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6C827-9E14-43BD-84CF-CF8527B66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D103E-ED7D-4D36-9D9C-22B7131FD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14D8A-C8F9-43F7-B943-2F33DC775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6432A-D311-4B63-930D-D3AFF8AEF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42CA6-CFA5-4A8B-8E48-25C6D97F4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EB963-A501-436E-A1C8-56B634519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D0A45-87E7-441C-8311-9590D3A49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80EC2A-7431-4F0C-952F-31A119E57E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65616F-B171-4E18-8A7A-8E9CD6F7C6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FF48F-50C5-4609-A48E-07D8905ED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04DA5-1CA4-4089-A70B-66DF823A0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F0F1D-973B-4406-8042-65DB8C08C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33EF3-35D0-43BE-B5E0-5A38D4DF4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23F0A-E949-45E5-95D5-72808C9E3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AB39B-E6F0-42B3-B8E3-7BACC0B63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78541-B8C4-41A3-9742-E7DFD8DCB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BA21-70B7-405F-A553-7B92432E49C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8BAA-DE01-4117-930C-4EF520E3BE1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MWG Performance Measures Questionnaire</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xt Steps / Recommendation</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CT staff has stated that a new Performance Metrics Rule may be opened for the purpose of evaluating current and future reporting requirements. This survey will be available to PUCT staff for consideration in future Rule Making.</a:t>
            </a:r>
            <a:endParaRPr b="0" lang="en-US" sz="28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MWG recommends to RMS that an investigation be conducted to analyze cost and benefits of utilizing a web-based file exchange method to support standardization and downloading of reporting.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ormance Measure Reporting Requirements</a:t>
            </a: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porting requirements allowed the commission to obtain information to evaluate the transactional performance of the retail electric marke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 Data provided b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COT – To PUCT and All Market Participan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DSP – To PUCT and CRs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 – To PUC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rvey Participants</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TDP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8 Competitive Retailer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 responses represent the majority of the customer loa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RCOT</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rvey Responses</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long does it take to prepare, send and file the Quarterly Performance Metric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s ranged from 1 to 4 hours per quarter</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duce 1 to 4 reports per CR</a:t>
            </a:r>
            <a:endParaRPr b="0" lang="en-US" sz="18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DSP’s ranged from 1 day to 3 weeks per quarter</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duced 46 to 70 reports per TDSP</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COT spends 460 hours per quarter</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duces 1266 reports per quarter</a:t>
            </a:r>
            <a:endParaRPr b="0" lang="en-US" sz="1800" spc="-1" strike="noStrike">
              <a:solidFill>
                <a:srgbClr val="000000"/>
              </a:solidFill>
              <a:latin typeface="Tahom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rvey Responses</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end / receive the quarterly performance metrics reports?</a:t>
            </a:r>
            <a:endParaRPr b="0" lang="en-US" sz="32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COT and TDSP’s hand deliver report to PUCT, other reports are sent via …</a:t>
            </a:r>
            <a:endParaRPr b="0" lang="en-US" sz="28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D’s</a:t>
            </a:r>
            <a:endParaRPr b="0" lang="en-US" sz="28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SV files</a:t>
            </a:r>
            <a:endParaRPr b="0" lang="en-US" sz="28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il</a:t>
            </a:r>
            <a:endParaRPr b="0" lang="en-US" sz="28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ctronic filing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240"/>
            <a:ext cx="779328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rvey Responses</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your company use the Quarterly Performance Measurement reports?</a:t>
            </a:r>
            <a:endParaRPr b="0" lang="en-US" sz="32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ensus from responses were that the reports are useful to some (6 positive responses), primarily as a Market indicator or for executive reporting</a:t>
            </a: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ata received is not useful to resolve day to day issues, as it is produced for the previous quarter.</a:t>
            </a: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ort is cumbersome, too much data for some participa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rvey Response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components of the report are useful?</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in and Switch completion percentag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action volum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COT and TDSP volumes and percentag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rvey Responses</a:t>
            </a:r>
            <a:br>
              <a:rPr sz="4400"/>
            </a:br>
            <a:r>
              <a:rPr b="0" lang="en-US" sz="2800" spc="-1" strike="noStrike">
                <a:solidFill>
                  <a:srgbClr val="333399"/>
                </a:solidFill>
                <a:latin typeface="Tahoma"/>
              </a:rPr>
              <a:t>What additional metrics would you like to add?</a:t>
            </a:r>
            <a:endParaRPr b="0" lang="en-US" sz="2800" spc="-1" strike="noStrike">
              <a:solidFill>
                <a:srgbClr val="333399"/>
              </a:solidFill>
              <a:latin typeface="Tahoma"/>
            </a:endParaRPr>
          </a:p>
        </p:txBody>
      </p:sp>
      <p:sp>
        <p:nvSpPr>
          <p:cNvPr id="11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CR’s</a:t>
            </a:r>
            <a:endParaRPr b="0" lang="en-US" sz="24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7920" indent="-28008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DSP field performance, date wanted vs. actual</a:t>
            </a:r>
            <a:endParaRPr b="0" lang="en-US" sz="2000" spc="-1" strike="noStrike">
              <a:solidFill>
                <a:srgbClr val="000000"/>
              </a:solidFill>
              <a:latin typeface="Tahoma"/>
            </a:endParaRPr>
          </a:p>
          <a:p>
            <a:pPr lvl="1" marL="727920" indent="-28008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ck 824 rejects by type and transactions</a:t>
            </a:r>
            <a:endParaRPr b="0" lang="en-US" sz="2000" spc="-1" strike="noStrike">
              <a:solidFill>
                <a:srgbClr val="000000"/>
              </a:solidFill>
              <a:latin typeface="Tahoma"/>
            </a:endParaRPr>
          </a:p>
          <a:p>
            <a:pPr lvl="1" marL="727920" indent="-28008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ual field completion times for MVI, MVO and Re-Connects</a:t>
            </a:r>
            <a:endParaRPr b="0" lang="en-US" sz="2000" spc="-1" strike="noStrike">
              <a:solidFill>
                <a:srgbClr val="000000"/>
              </a:solidFill>
              <a:latin typeface="Tahoma"/>
            </a:endParaRPr>
          </a:p>
          <a:p>
            <a:pPr lvl="1" marL="727920" indent="-28008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nnects after DNP’s </a:t>
            </a:r>
            <a:endParaRPr b="0" lang="en-US" sz="2000" spc="-1" strike="noStrike">
              <a:solidFill>
                <a:srgbClr val="000000"/>
              </a:solidFill>
              <a:latin typeface="Tahoma"/>
            </a:endParaRPr>
          </a:p>
          <a:p>
            <a:pPr lvl="1" marL="727920" indent="-28008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67’s sent within Protocols, </a:t>
            </a:r>
            <a:endParaRPr b="0" lang="en-US" sz="2000" spc="-1" strike="noStrike">
              <a:solidFill>
                <a:srgbClr val="000000"/>
              </a:solidFill>
              <a:latin typeface="Tahoma"/>
            </a:endParaRPr>
          </a:p>
          <a:p>
            <a:pPr lvl="1" marL="727920" indent="-28008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f cycle reads and re-reads.</a:t>
            </a:r>
            <a:endParaRPr b="0" lang="en-US" sz="2000" spc="-1" strike="noStrike">
              <a:solidFill>
                <a:srgbClr val="000000"/>
              </a:solidFill>
              <a:latin typeface="Tahoma"/>
            </a:endParaRPr>
          </a:p>
        </p:txBody>
      </p:sp>
      <p:sp>
        <p:nvSpPr>
          <p:cNvPr id="114"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DSP’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fety Net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advertent Gain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er Test</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24’s sent within Protocol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14 PC’s sent</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VI’s received with 48 hours prior notice</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COT planned and unplanned outag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rvey Responses</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uld your Company support a web-based electronic file exchange method for quarterly reporting?</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R’s support web-based reporting ( 2 responses expressed concern about security)</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DSP’s support web-based repor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2:07:30Z</dcterms:created>
  <dc:creator>Registered User</dc:creator>
  <dc:description/>
  <dc:language>en-US</dc:language>
  <cp:lastModifiedBy>mmccarty</cp:lastModifiedBy>
  <dcterms:modified xsi:type="dcterms:W3CDTF">2006-05-02T16:55:24Z</dcterms:modified>
  <cp:revision>14</cp:revision>
  <dc:subject/>
  <dc:title>MMWG Performance Measures Questionnaire</dc:title>
</cp:coreProperties>
</file>